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B869-D9BC-4F0B-922F-5C8F0451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C08-84EC-498F-8924-4BDC71CE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61050-40F6-460F-ADE7-F6D871AA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F07A7-01AE-4C50-9956-80969B09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C596A-875F-40DE-9A66-2EA27062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8C51E-92C9-4F1B-BC60-90A9D57F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0CAC1-0827-484E-9BE2-8AB63F1E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3FD86-A705-4660-A3C6-071C2FF1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6F497-F0A3-49F0-BEA8-A1C7F08E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AF5B0-C732-441C-AFC9-47613C93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C1D7A-1FE1-4726-A5C3-6627DE2C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6DF4E-6964-4BDE-AA17-71D3D5AC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744-98E3-4B3F-8763-4E1C8EB6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01E84-56D4-4ACE-9DD2-0990C396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40D79-F8C0-4E7D-A36E-823D47C7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9EEBF-333C-4462-A4F7-BC7E41CB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9A3EF-79D2-4DD3-9ED2-6BABBD24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16CDE-D712-494B-81C7-CEE47AAE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477E2-1E01-4323-8251-4D372096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CA5CD-7F65-43A6-929C-1E66B483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915C3-7BDD-404F-B229-2306ACFB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365FC-6B79-4A9A-B9E2-1AC9CCA6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2F561-8336-4545-BABC-4C461519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44C-FA55-4A3E-BDC9-533388CE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3929E-6DFA-4108-B942-977F24E0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7ADE5-A7EF-4C95-B7A2-ABD38092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300D1-4977-4DD4-A145-027C8FE5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EF167-96F1-46D0-84DF-099517AD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3BA9A-56A2-4967-B00C-E3F3F79C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7BE79-934D-411F-A09B-189C8133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4689B-64A7-42A5-9078-4BA2E155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1762E-7B14-417F-AFBB-5A3A3B4D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1277E-DA2A-49DC-B639-D5EE7BEC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DB0E5-EEA5-4174-A55F-91EFF4C4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CE25-444F-4B94-AF60-6D2736B7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A62F8-71BF-46C4-9341-421983A1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A4802-F428-43F0-8628-378D1B06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8FB83-74F3-4DFE-9B0A-57DE86D1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99E73-DEA2-4DB7-8277-C5642E56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17B0F-F68D-41D9-B2B0-3A88AD77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ADE6C-ECA0-4C01-A33C-5CA597DF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1C72E-A4BD-49BA-ADF0-8340106E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76AE6-8685-441C-A490-95F2C600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A1241-9589-4042-8215-E47606E2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A71DD-8E92-496D-8FEC-7400C589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D35A-D70A-4485-B174-2DDA6D40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5B14D-84DD-4ADD-97C2-33C0D097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4676A-38BB-4733-B684-F5C19F3C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AC465-334E-47E0-96F7-5A59575F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9DF19-5EC4-4A1D-8C83-0885DA52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8B3DC-6C2D-42E5-B880-36396FB0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123A-79AE-4BA9-A16B-67B797BE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E7A7-F25F-414C-8FD2-CA3508BA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8858-CC44-4056-ABEA-AE12A624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3A70-8B77-4DFD-A7DE-83FBE8F8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88F8-DC50-4D55-8A76-2757F96D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E73-08CF-4259-B549-C4691526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3554-53DB-41BC-AFBE-2A04685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CBF7-3348-4D37-BBB0-34AF1D45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2BB2-7C61-4A81-95DD-D9BDADD6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E5C8-B3B7-458F-A412-B47CABB1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67E3-8E0D-4005-B04E-E87E9551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2A82F-708B-42F4-B133-8A554902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6EB44-A4B3-4A22-ADFF-9018E16F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BF416-EE45-4D40-A2D7-FFE65FC6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D99E0-F859-46AE-B333-1D611218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E75D3-8C15-410C-86DE-4BABE18C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C4F-F32C-4C46-8627-AF9B0E4D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8C12-EF3C-4B17-A894-978044F6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00F5-5EBD-4056-93AF-5461C4FB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C7D5-2E7A-44AE-AFB0-A2B0D82C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FDFEA-B73C-43B4-9387-A12F2D84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86F70-0780-420C-A388-819530E1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FE038-C7AF-4E8F-8FC9-05FAD75A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43CCB-AD78-4656-8155-D97761FF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320FC-C11F-4DA4-85A6-C49D60A4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3063C-C9BF-41AF-B6C8-2A6E0C1F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1AC8C-61B9-4ADB-85F6-37FDDF2B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9CDF-3BCC-4213-A1B4-24D95977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3F7D-BCBF-481E-8BA2-9931A585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E4FDD-CA9D-4F17-AF6F-ADC263D8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67E5F-2EF4-4529-900A-4457F72F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AA992-33B8-46EA-BA1F-B135AFD1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30A2F-2637-47EA-9C46-F4AA8E6F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F6EA3-C30D-495F-B95D-7DECC635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3768-5BC4-49E5-BFA4-471A8575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5437A-D98B-4DE4-A09D-63ABE348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7AA84-1D82-4792-8D74-DB5278EF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683B0-98BE-4CEF-AA31-94492867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A76-69B2-439A-A07B-22318946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83DE7-7C84-4D0E-90A9-361D048E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1740D-A5BF-4E9B-80C1-AE8B0324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DDCBE-1EF0-464F-996E-256A7CD6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67B47-015C-4674-A4F5-8AB35173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93344-EC96-4F61-B7AF-76F70211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390E5-29B0-42EA-8373-70A5591B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0DF5-C6AB-40D0-BBC1-3CEB51BA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E7B53-5BFD-4344-850A-1C4D9481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E0CAA-6CF8-48E2-A2A5-8E8C42D7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F2ACC-193D-4CB7-AD65-4408202C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FC8-539C-4CB6-A843-C0ECC450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56B73-4387-4B70-93E8-7A0A0154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06DBD-692E-4E79-897B-9B951847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3183F-5174-40DA-8BF4-2C01E35C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354DB-0730-434A-83F2-A709DA91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20DB5-FAC7-432B-8E23-403326C3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038C9-5957-46F9-8B64-7CA4BDEF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8265F-DA53-4298-9EA8-12B8E3A3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9C5BB-7DAD-4EC8-9B37-C0C45607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4D7BF-E020-4577-B8F6-D0D0D2A3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FEA81-F93A-4640-A039-FDBD960A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94F-D72D-48E0-9D7E-20A62654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99765-D98D-4B5E-B9B4-A730F5CF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5B64C-1091-4741-897A-B52C9BC0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8E7B3-4BE7-4937-B3C1-D94830DE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09CE2-2219-4439-8219-F75747A8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8DFC5-5D57-4D5B-86C5-64D2CA45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C858D-0A41-4F0D-87CF-41958679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2179D-892D-44A0-941C-66564066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0E6F3-4EB1-4A50-90A7-D739C991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4A116-1559-400D-8A57-FD916F6C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AA700-138B-48A6-B128-9669B5D7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F0C-4EF1-47C8-A88C-07DA0D31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E82BA-41D2-4377-9714-B90EAD5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A0F10-7ADC-4499-897A-2439F866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9EC4F-1BC2-4439-99B7-8A20BF52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CF4B8-55EA-44DF-AEEC-40EEDE85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F4E13-EAF8-46D9-B05A-0A295C15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171BE-C0B3-4C4E-A6D5-F7B2ABC7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49B52-75ED-4EF7-B5CF-12C9E1FB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1ADF4-52BF-4974-865A-E9069520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BDCFA-892B-40BF-B94B-1641E6BC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3D0C5-FC7A-428B-83C0-AC920F5C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CE5-3DAB-45EB-9735-447AB15B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0C7A4-99B5-4C0B-AD4F-5FE3261F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5608C-AA96-4BE9-9DF8-D565A198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432D7-D582-405F-92FD-42A0F3E4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7BD73-623D-4DB7-92CE-9DC8477C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5AC37-AA03-47BA-934E-D4F92A5C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41B3C-33DF-4F81-82E9-05B662C0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C0520-015D-403A-BBD3-8F8DDCAC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70A8E-0E19-4D53-B5EB-E6A3608C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3BE2A-2452-4789-9031-881A96BF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7FC49-A758-43A0-B736-2FC954BB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F942-3340-4A1F-9147-6C990F3289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91CB-6DE2-420F-B0F0-E82BBDD776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95E0-B654-4B1E-A9DB-BD2DE50283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4378-D7D2-48F3-B8AF-CB8C4E9214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9EC9-8870-4EA7-BCD9-0D341C5312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509A-9BC5-4910-9843-50E1152F02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4F0A-690D-40AC-A01C-47279B98FA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A136-B5B9-4A55-9804-6C486C0169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864B-32ED-4C66-9FC9-7E0661BFC1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DE8E-6FA1-4D20-ACB5-2A4F382DDD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EB44-E11F-4FA3-8F36-88F7BC8514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71BB-C48B-4A71-834B-CB3DFC463B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rosv.ru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e36406"/>
                </a:solidFill>
                <a:uFillTx/>
                <a:latin typeface="Calibri"/>
              </a:rPr>
              <a:t>Сложноподчиненные предл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314880" y="3786120"/>
            <a:ext cx="582912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204"/>
                </a:solidFill>
                <a:latin typeface="Calibri"/>
              </a:rPr>
              <a:t>Авторы: Иванова Ирина, Попова Мария, Павлов Константин. 9 «в» класс, г. Сыктывкар. Пушкинская гимназ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меры СПП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999720"/>
            <a:ext cx="80438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Деревня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где скучал Евгений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, была прелестный уголок. СПП с придаточным определите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Дядюшка пел так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как поет простой народ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с придаточным обстоятельственным (образа действ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знал,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 что основа всего – нравственность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 с придаточным изъяснитель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Его не было дома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почему я и оставил записку.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СПП с придаточным присоеди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98420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Если солнце не потушат,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будут зайчики всегда. СПП с придаточным обстоятельственным (уступ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Информационные ресур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Calibri"/>
                <a:hlinkClick r:id="rId1"/>
              </a:rPr>
              <a:t>http://www.prosv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http://www.lingvotech.com/klasss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Бабайцева В. В., Чеснокова Л. Д. Русский язык. Теория. 5-9 кла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Бунеев Р. Н., Бунеева Е. В Русский язык. Учебник для 9 класса основной школы. – М. : 2006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11512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204"/>
                </a:solidFill>
                <a:latin typeface="Calibri"/>
              </a:rPr>
              <a:t>Культура речи </a:t>
            </a:r>
            <a:r>
              <a:rPr b="0" lang="ru-RU" sz="4400" spc="-1" strike="noStrike">
                <a:solidFill>
                  <a:srgbClr val="984204"/>
                </a:solidFill>
                <a:latin typeface="Calibri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Calibri"/>
              </a:rPr>
              <a:t>грамотность и ее выразительность – одна из важных сторон общения людей друг с друг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7429320" cy="1000080"/>
          </a:xfrm>
          <a:prstGeom prst="rect">
            <a:avLst/>
          </a:prstGeom>
          <a:solidFill>
            <a:srgbClr val="f9b639"/>
          </a:solidFill>
          <a:ln w="255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204"/>
                </a:solidFill>
                <a:latin typeface="Calibri"/>
              </a:rPr>
              <a:t>Сложные 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6" name="Подзаголовок 2"/>
          <p:cNvGrpSpPr/>
          <p:nvPr/>
        </p:nvGrpSpPr>
        <p:grpSpPr>
          <a:xfrm>
            <a:off x="165240" y="1547640"/>
            <a:ext cx="2597040" cy="1702080"/>
            <a:chOff x="165240" y="1547640"/>
            <a:chExt cx="2597040" cy="1702080"/>
          </a:xfrm>
        </p:grpSpPr>
        <p:pic>
          <p:nvPicPr>
            <p:cNvPr id="497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165240" y="1547640"/>
              <a:ext cx="25970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85840" y="1643040"/>
              <a:ext cx="235728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Сложносочиненные предол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99" name="Прямая со стрелкой 4"/>
          <p:cNvCxnSpPr/>
          <p:nvPr/>
        </p:nvCxnSpPr>
        <p:spPr>
          <a:xfrm flipH="1">
            <a:off x="1213560" y="1141920"/>
            <a:ext cx="1143720" cy="4294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0" name="Прямая со стрелкой 6"/>
          <p:cNvCxnSpPr/>
          <p:nvPr/>
        </p:nvCxnSpPr>
        <p:spPr>
          <a:xfrm flipH="1">
            <a:off x="4355280" y="1143000"/>
            <a:ext cx="2520" cy="57240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1" name="Прямая со стрелкой 8"/>
          <p:cNvCxnSpPr/>
          <p:nvPr/>
        </p:nvCxnSpPr>
        <p:spPr>
          <a:xfrm>
            <a:off x="5857560" y="1142640"/>
            <a:ext cx="1429560" cy="4294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02" name="TextBox 11"/>
          <p:cNvGrpSpPr/>
          <p:nvPr/>
        </p:nvGrpSpPr>
        <p:grpSpPr>
          <a:xfrm>
            <a:off x="2835360" y="1695600"/>
            <a:ext cx="3363840" cy="1023840"/>
            <a:chOff x="2835360" y="1695600"/>
            <a:chExt cx="3363840" cy="1023840"/>
          </a:xfrm>
        </p:grpSpPr>
        <p:pic>
          <p:nvPicPr>
            <p:cNvPr id="503" name="TextBox 11" descr=""/>
            <p:cNvPicPr/>
            <p:nvPr/>
          </p:nvPicPr>
          <p:blipFill>
            <a:blip r:embed="rId2"/>
            <a:stretch/>
          </p:blipFill>
          <p:spPr>
            <a:xfrm>
              <a:off x="2835360" y="1695600"/>
              <a:ext cx="33638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000240" y="1785960"/>
              <a:ext cx="307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Сложноподчиненные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предло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TextBox 13"/>
          <p:cNvGrpSpPr/>
          <p:nvPr/>
        </p:nvGrpSpPr>
        <p:grpSpPr>
          <a:xfrm>
            <a:off x="6267600" y="1620720"/>
            <a:ext cx="2955600" cy="1397160"/>
            <a:chOff x="6267600" y="1620720"/>
            <a:chExt cx="2955600" cy="1397160"/>
          </a:xfrm>
        </p:grpSpPr>
        <p:pic>
          <p:nvPicPr>
            <p:cNvPr id="506" name="TextBox 13" descr=""/>
            <p:cNvPicPr/>
            <p:nvPr/>
          </p:nvPicPr>
          <p:blipFill>
            <a:blip r:embed="rId3"/>
            <a:stretch/>
          </p:blipFill>
          <p:spPr>
            <a:xfrm>
              <a:off x="6267600" y="1620720"/>
              <a:ext cx="29556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6429240" y="1714680"/>
              <a:ext cx="271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84204"/>
                  </a:solidFill>
                  <a:latin typeface="Calibri"/>
                </a:rPr>
                <a:t>Бессоюзные сложные предло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8" name="Рисунок 9" descr="images.jpeg"/>
          <p:cNvPicPr/>
          <p:nvPr/>
        </p:nvPicPr>
        <p:blipFill>
          <a:blip r:embed="rId4"/>
          <a:stretch/>
        </p:blipFill>
        <p:spPr>
          <a:xfrm>
            <a:off x="1643040" y="3286080"/>
            <a:ext cx="5715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2155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984204"/>
                </a:solidFill>
                <a:uFillTx/>
                <a:latin typeface="Calibri"/>
              </a:rPr>
              <a:t>Сложносочиненное предложение </a:t>
            </a:r>
            <a:r>
              <a:rPr b="0" lang="ru-RU" sz="2900" spc="-1" strike="noStrike">
                <a:solidFill>
                  <a:srgbClr val="984204"/>
                </a:solidFill>
                <a:latin typeface="Calibri"/>
              </a:rPr>
              <a:t>– это сложное союзное предложение, части которого равноправны и связаны сочинительной связью с помощью интонации и сочинительных союз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14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84204"/>
                </a:solidFill>
                <a:uFillTx/>
                <a:latin typeface="Calibri"/>
              </a:rPr>
              <a:t> </a:t>
            </a:r>
            <a:r>
              <a:rPr b="1" i="1" lang="ru-RU" sz="3200" spc="-1" strike="noStrike" u="sng">
                <a:solidFill>
                  <a:srgbClr val="984204"/>
                </a:solidFill>
                <a:uFillTx/>
                <a:latin typeface="Calibri"/>
              </a:rPr>
              <a:t>Сложноподчиненное предложение </a:t>
            </a:r>
            <a:r>
              <a:rPr b="0" lang="ru-RU" sz="3200" spc="-1" strike="noStrike">
                <a:solidFill>
                  <a:srgbClr val="984204"/>
                </a:solidFill>
                <a:latin typeface="Calibri"/>
              </a:rPr>
              <a:t>– это сложное союзное предложение , части которого соединены подчинительной связью, т. е. одна является главной (независимой), а другая – придаточной (зависимой , подчиненной главной по смыслу и грамматически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987480" y="237960"/>
            <a:ext cx="7504200" cy="944640"/>
          </a:xfrm>
          <a:prstGeom prst="rect">
            <a:avLst/>
          </a:prstGeom>
          <a:ln w="0">
            <a:noFill/>
          </a:ln>
        </p:spPr>
      </p:pic>
      <p:grpSp>
        <p:nvGrpSpPr>
          <p:cNvPr id="512" name="Подзаголовок 2"/>
          <p:cNvGrpSpPr/>
          <p:nvPr/>
        </p:nvGrpSpPr>
        <p:grpSpPr>
          <a:xfrm>
            <a:off x="60480" y="1335240"/>
            <a:ext cx="1804680" cy="2481120"/>
            <a:chOff x="60480" y="1335240"/>
            <a:chExt cx="1804680" cy="2481120"/>
          </a:xfrm>
        </p:grpSpPr>
        <p:pic>
          <p:nvPicPr>
            <p:cNvPr id="513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60480" y="1335240"/>
              <a:ext cx="1804680" cy="24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214200" y="1428840"/>
              <a:ext cx="15004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98989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898989"/>
                  </a:solidFill>
                  <a:latin typeface="Calibri"/>
                </a:rPr>
                <a:t>определ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5" name="Прямая со стрелкой 4"/>
          <p:cNvCxnSpPr/>
          <p:nvPr/>
        </p:nvCxnSpPr>
        <p:spPr>
          <a:xfrm flipH="1">
            <a:off x="999720" y="928800"/>
            <a:ext cx="328680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16" name="Прямая со стрелкой 7"/>
          <p:cNvCxnSpPr/>
          <p:nvPr/>
        </p:nvCxnSpPr>
        <p:spPr>
          <a:xfrm flipH="1">
            <a:off x="2785320" y="928800"/>
            <a:ext cx="1500840" cy="7149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17" name="TextBox 9"/>
          <p:cNvGrpSpPr/>
          <p:nvPr/>
        </p:nvGrpSpPr>
        <p:grpSpPr>
          <a:xfrm>
            <a:off x="1908000" y="1474920"/>
            <a:ext cx="2170440" cy="2139840"/>
            <a:chOff x="1908000" y="1474920"/>
            <a:chExt cx="2170440" cy="2139840"/>
          </a:xfrm>
        </p:grpSpPr>
        <p:pic>
          <p:nvPicPr>
            <p:cNvPr id="518" name="TextBox 9" descr=""/>
            <p:cNvPicPr/>
            <p:nvPr/>
          </p:nvPicPr>
          <p:blipFill>
            <a:blip r:embed="rId3"/>
            <a:stretch/>
          </p:blipFill>
          <p:spPr>
            <a:xfrm>
              <a:off x="1908000" y="1474920"/>
              <a:ext cx="2170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2071800" y="1571760"/>
              <a:ext cx="18572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изъясн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0" name="Прямая со стрелкой 11"/>
          <p:cNvCxnSpPr/>
          <p:nvPr/>
        </p:nvCxnSpPr>
        <p:spPr>
          <a:xfrm flipH="1">
            <a:off x="4857480" y="999720"/>
            <a:ext cx="2160" cy="715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21" name="TextBox 12"/>
          <p:cNvGrpSpPr/>
          <p:nvPr/>
        </p:nvGrpSpPr>
        <p:grpSpPr>
          <a:xfrm>
            <a:off x="3833640" y="1547640"/>
            <a:ext cx="2530800" cy="1768680"/>
            <a:chOff x="3833640" y="1547640"/>
            <a:chExt cx="2530800" cy="1768680"/>
          </a:xfrm>
        </p:grpSpPr>
        <p:pic>
          <p:nvPicPr>
            <p:cNvPr id="522" name="TextBox 12" descr=""/>
            <p:cNvPicPr/>
            <p:nvPr/>
          </p:nvPicPr>
          <p:blipFill>
            <a:blip r:embed="rId4"/>
            <a:stretch/>
          </p:blipFill>
          <p:spPr>
            <a:xfrm>
              <a:off x="3833640" y="1547640"/>
              <a:ext cx="253080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4000680" y="1643040"/>
              <a:ext cx="221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бстоятельствен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4" name="Прямая со стрелкой 14"/>
          <p:cNvCxnSpPr/>
          <p:nvPr/>
        </p:nvCxnSpPr>
        <p:spPr>
          <a:xfrm>
            <a:off x="5000400" y="1000080"/>
            <a:ext cx="250092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525" name="TextBox 15"/>
          <p:cNvGrpSpPr/>
          <p:nvPr/>
        </p:nvGrpSpPr>
        <p:grpSpPr>
          <a:xfrm>
            <a:off x="6620040" y="1474920"/>
            <a:ext cx="2530440" cy="1768320"/>
            <a:chOff x="6620040" y="1474920"/>
            <a:chExt cx="2530440" cy="1768320"/>
          </a:xfrm>
        </p:grpSpPr>
        <p:pic>
          <p:nvPicPr>
            <p:cNvPr id="526" name="TextBox 15" descr=""/>
            <p:cNvPicPr/>
            <p:nvPr/>
          </p:nvPicPr>
          <p:blipFill>
            <a:blip r:embed="rId5"/>
            <a:stretch/>
          </p:blipFill>
          <p:spPr>
            <a:xfrm>
              <a:off x="6620040" y="1474920"/>
              <a:ext cx="253044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6786720" y="1571760"/>
              <a:ext cx="214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 придаточными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соединительным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28" name="Прямая со стрелкой 17"/>
          <p:cNvCxnSpPr/>
          <p:nvPr/>
        </p:nvCxnSpPr>
        <p:spPr>
          <a:xfrm flipH="1">
            <a:off x="4928400" y="3071880"/>
            <a:ext cx="252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529" name="TextBox 18"/>
          <p:cNvSpPr/>
          <p:nvPr/>
        </p:nvSpPr>
        <p:spPr>
          <a:xfrm>
            <a:off x="4143240" y="3714840"/>
            <a:ext cx="21434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b6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а действия  и степ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уп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28800" y="428400"/>
            <a:ext cx="74865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204"/>
                </a:solidFill>
                <a:latin typeface="Calibri"/>
              </a:rPr>
              <a:t>Придаточные определитель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214200" y="1571760"/>
            <a:ext cx="8358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носятся к существительному или другому слову, употребленному в значении существительного, в главной части, давая ему характеристику или раскрывая призна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К придаточным определительным от главного предложения ставятся вопросы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какой? какая? како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ные слова: кто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, что, какой, чей, когда, где и д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Указательные слов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такой, тот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Петя подошел к тому месту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откуда слышались выстре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изъяснитель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носятся к словам со значением речи, мысли и чувства(глаголу, наречию, отглагольному существительному, краткой форме прилагательного и др.) в главной части, уточняя или поясняя смысл этих слов. Придаточные изъяснительные отвечают на вопросы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косвенных падеж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ы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что, как, будто, как будто, что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Союзные слов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что, кто, когда, где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Частица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Указательное слово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говорил о лете и том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что быть поэтом женщине – нелеп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обстоятельствен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204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и отвечают на вопросы обстоятельств. Эти вопросы задаются от всего главного предложения или от состава сказуемого. По соотношению с членами предложения выделяются обстоятельственные придаточные места, времени, причины, следствия, образа действия и степени, сравнения, цели, условия, уступ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984204"/>
                </a:solidFill>
                <a:latin typeface="Calibri"/>
              </a:rPr>
              <a:t>Пример: </a:t>
            </a: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Он вернулся домой, </a:t>
            </a:r>
            <a:r>
              <a:rPr b="0" i="1" lang="ru-RU" sz="2400" spc="-1" strike="noStrike">
                <a:solidFill>
                  <a:srgbClr val="984204"/>
                </a:solidFill>
                <a:latin typeface="Calibri"/>
              </a:rPr>
              <a:t>когда его перестали уже жд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204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Рисунок 3" descr="79417146.jpg"/>
          <p:cNvPicPr/>
          <p:nvPr/>
        </p:nvPicPr>
        <p:blipFill>
          <a:blip r:embed="rId1"/>
          <a:stretch/>
        </p:blipFill>
        <p:spPr>
          <a:xfrm>
            <a:off x="5000760" y="4643280"/>
            <a:ext cx="3000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204"/>
                </a:solidFill>
                <a:latin typeface="Calibri"/>
              </a:rPr>
              <a:t>Придаточные присоединитель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599840"/>
            <a:ext cx="44719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Они выражают дополнительные сообщения относительно содержания главной ча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Придаточные присоединительные относятся ко всей главной части, к ним нельзя поставить вопро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Союзные слова: что, почему, отчего, зачем и т. 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Придаточная часть, как правило, стоит после главн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984204"/>
                </a:solidFill>
                <a:latin typeface="Calibri"/>
              </a:rPr>
              <a:t>Пример: Вставая поутру, француз пил целебный бальзам, </a:t>
            </a:r>
            <a:r>
              <a:rPr b="0" i="1" lang="ru-RU" sz="2200" spc="-1" strike="noStrike">
                <a:solidFill>
                  <a:srgbClr val="984204"/>
                </a:solidFill>
                <a:latin typeface="Calibri"/>
              </a:rPr>
              <a:t>отчего он и веселе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Рисунок 3" descr="107910.jpg"/>
          <p:cNvPicPr/>
          <p:nvPr/>
        </p:nvPicPr>
        <p:blipFill>
          <a:blip r:embed="rId1"/>
          <a:stretch/>
        </p:blipFill>
        <p:spPr>
          <a:xfrm>
            <a:off x="5572080" y="1643040"/>
            <a:ext cx="26481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6:42:51Z</dcterms:created>
  <dc:creator>Samsung</dc:creator>
  <dc:description/>
  <dc:language>en-US</dc:language>
  <cp:lastModifiedBy>Владелец</cp:lastModifiedBy>
  <dcterms:modified xsi:type="dcterms:W3CDTF">2010-05-17T06:05:53Z</dcterms:modified>
  <cp:revision>27</cp:revision>
  <dc:subject/>
  <dc:title>Какие виды сложных предложений вам известны?</dc:title>
</cp:coreProperties>
</file>